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7CF7-B6AA-48E2-8F62-E2335630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F0B7-7FF2-41A8-947C-4FBF0C78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C414-03FB-4F4E-951D-E92EE73F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E0C-31C0-4D27-A86E-48E52319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7176-6213-4A98-9C48-91CB7207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EFE8-59C0-4A71-8BC3-5AB08C68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5838-5ACD-4D93-B4DD-50B9AF97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655-D523-4858-A335-B1C77948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17C-07CF-4F8E-AA31-FED20485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8F8-3094-4C8E-BD6D-887F8977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F0B-930F-4B3B-9515-E2552016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779D-70BE-421B-B116-98C1E339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97AB-C7B1-48D9-A2F6-EFBA0D7D32EE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6422"/>
                </a:solidFill>
                <a:latin typeface="Segoe Script"/>
              </a:rPr>
              <a:t>Способы передвижения животных. Полости тела.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42" name="Подзаголовок 2" descr=""/>
          <p:cNvPicPr/>
          <p:nvPr/>
        </p:nvPicPr>
        <p:blipFill>
          <a:blip r:embed="rId1"/>
          <a:stretch/>
        </p:blipFill>
        <p:spPr>
          <a:xfrm>
            <a:off x="1189080" y="3352680"/>
            <a:ext cx="68324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Segoe UI"/>
              </a:rPr>
              <a:t>Цели урока:</a:t>
            </a:r>
            <a:r>
              <a:rPr b="0" lang="ru-RU" sz="2200" spc="-1" strike="noStrike">
                <a:solidFill>
                  <a:srgbClr val="000000"/>
                </a:solidFill>
                <a:latin typeface="Segoe U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egoe UI"/>
              </a:rPr>
              <a:t>1. Сформировать представление о полости тела животных, ее видах и значении, об эволюционном направлении в изменении типа полостей тела животных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egoe U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Segoe UI"/>
              </a:rPr>
              <a:t>2. Познакомиться с основными типами движения животных, показать эволюционное направление в изменении способов движения.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Segoe UI"/>
              </a:rPr>
              <a:t>Задачи: 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Segoe UI"/>
              </a:rPr>
              <a:t>Образовательная.</a:t>
            </a:r>
            <a:r>
              <a:rPr b="0" lang="ru-RU" sz="2200" spc="-1" strike="noStrike">
                <a:solidFill>
                  <a:srgbClr val="000000"/>
                </a:solidFill>
                <a:latin typeface="Segoe UI"/>
              </a:rPr>
              <a:t> Расширить знания учащихся о полостях тела, способах передвижения животных и жизненных формах.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Segoe UI"/>
              </a:rPr>
              <a:t>Развивающая.</a:t>
            </a:r>
            <a:r>
              <a:rPr b="0" lang="ru-RU" sz="2200" spc="-1" strike="noStrike">
                <a:solidFill>
                  <a:srgbClr val="000000"/>
                </a:solidFill>
                <a:latin typeface="Segoe UI"/>
              </a:rPr>
              <a:t> Развивать умение делать выводы на основе полученной информации. Способствовать формированию у учащихся индивидуального стиля учебной деятельности, умения адекватно мыслить и действовать в условиях ситуации выбора. Развивать интеллектуальные способности, логическое мышление, навыки познавательной самостоятельной активности.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Segoe UI"/>
              </a:rPr>
              <a:t>Воспитательная.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Segoe UI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Segoe UI"/>
              </a:rPr>
              <a:t>Развитие навыков работы в группе. 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6422"/>
                </a:solidFill>
                <a:latin typeface="Segoe Script"/>
              </a:rPr>
              <a:t>Входной контроль</a:t>
            </a:r>
            <a:br>
              <a:rPr sz="4000"/>
            </a:br>
            <a:r>
              <a:rPr b="1" lang="ru-RU" sz="4000" spc="-1" strike="noStrike">
                <a:solidFill>
                  <a:srgbClr val="546422"/>
                </a:solidFill>
                <a:latin typeface="Segoe Script"/>
              </a:rPr>
              <a:t>Тест по вариантам</a:t>
            </a:r>
            <a:endParaRPr b="0" lang="en-US" sz="40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d23"/>
                </a:solidFill>
                <a:latin typeface="Segoe UI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проверить знания по теме Опорно-Двигательная система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d23"/>
                </a:solidFill>
                <a:latin typeface="Segoe UI"/>
              </a:rPr>
              <a:t>Форма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Электронный тест через проектор демонстрируется презентация, на каждое задание 1 мин. Всего 5 минут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После выполнения и сдачи тетрадей. Самоконтроль. Учитель сообщает правильные ответы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422"/>
                </a:solidFill>
                <a:latin typeface="Segoe Script"/>
              </a:rPr>
              <a:t>УЭ 0. </a:t>
            </a:r>
            <a:r>
              <a:rPr b="1" lang="ru-RU" sz="4400" spc="-1" strike="noStrike">
                <a:solidFill>
                  <a:srgbClr val="546422"/>
                </a:solidFill>
                <a:latin typeface="Segoe Script"/>
              </a:rPr>
              <a:t>Общая цель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d23"/>
                </a:solidFill>
                <a:latin typeface="Segoe UI"/>
              </a:rPr>
              <a:t>Цель:</a:t>
            </a:r>
            <a:r>
              <a:rPr b="0" lang="ru-RU" sz="3200" spc="-1" strike="noStrike">
                <a:solidFill>
                  <a:srgbClr val="e97d23"/>
                </a:solidFill>
                <a:latin typeface="Segoe U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способствовать развитию умений формулировать цель, умению владеть научным языком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d23"/>
                </a:solidFill>
                <a:latin typeface="Segoe UI"/>
              </a:rPr>
              <a:t>Форма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Работа в группах 1 мин, формулирование цели. 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Один представитель группы вслух проговаривает цель. Так каждая группа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422"/>
                </a:solidFill>
                <a:latin typeface="Segoe Script"/>
              </a:rPr>
              <a:t>УЭ 2. </a:t>
            </a:r>
            <a:r>
              <a:rPr b="1" lang="ru-RU" sz="4400" spc="-1" strike="noStrike">
                <a:solidFill>
                  <a:srgbClr val="546422"/>
                </a:solidFill>
                <a:latin typeface="Segoe Script"/>
              </a:rPr>
              <a:t>Полости тела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97d23"/>
                </a:solidFill>
                <a:latin typeface="Segoe UI"/>
              </a:rPr>
              <a:t>Цель:</a:t>
            </a:r>
            <a:r>
              <a:rPr b="0" lang="ru-RU" sz="3000" spc="-1" strike="noStrike">
                <a:solidFill>
                  <a:srgbClr val="e97d23"/>
                </a:solidFill>
                <a:latin typeface="Segoe U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egoe UI"/>
              </a:rPr>
              <a:t>Способствовать формированию понятия полость тела: первичная и вторичная. Проследить эволюцию полостей тела у животных.</a:t>
            </a:r>
            <a:endParaRPr b="0" lang="en-US" sz="30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97d23"/>
                </a:solidFill>
                <a:latin typeface="Segoe UI"/>
              </a:rPr>
              <a:t>Форма: </a:t>
            </a:r>
            <a:r>
              <a:rPr b="0" lang="ru-RU" sz="3000" spc="-1" strike="noStrike">
                <a:solidFill>
                  <a:srgbClr val="000000"/>
                </a:solidFill>
                <a:latin typeface="Segoe UI"/>
              </a:rPr>
              <a:t>Устная работа в группах, поиск ответов на вопросы в учебнике 7 мин.</a:t>
            </a:r>
            <a:endParaRPr b="0" lang="en-US" sz="30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Segoe UI"/>
              </a:rPr>
              <a:t>Обсуждение вопросов, обязательный ответ на один из вопросов представителя от каждой группы.</a:t>
            </a:r>
            <a:endParaRPr b="0" lang="en-US" sz="30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Segoe UI"/>
              </a:rPr>
              <a:t>Подведение итогов, получение баллов</a:t>
            </a:r>
            <a:endParaRPr b="0" lang="en-US" sz="30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46422"/>
                </a:solidFill>
                <a:latin typeface="Segoe Script"/>
              </a:rPr>
              <a:t>УЭ 3 </a:t>
            </a:r>
            <a:r>
              <a:rPr b="1" lang="ru-RU" sz="4000" spc="-1" strike="noStrike">
                <a:solidFill>
                  <a:srgbClr val="546422"/>
                </a:solidFill>
                <a:latin typeface="Segoe Script"/>
              </a:rPr>
              <a:t>Способы передвижения животных. </a:t>
            </a:r>
            <a:endParaRPr b="0" lang="en-US" sz="40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d23"/>
                </a:solidFill>
                <a:latin typeface="Segoe UI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Выяснить, что такое движение, какие виды движений существуют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d23"/>
                </a:solidFill>
                <a:latin typeface="Segoe UI"/>
              </a:rPr>
              <a:t>Форма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Письменная работа в тетрадях, с использованием учебника. Составление схемы, с записью основных характеристик движения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Обсуждение, исправление ошибок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Подведение итогов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6422"/>
                </a:solidFill>
                <a:latin typeface="Segoe Script"/>
              </a:rPr>
              <a:t>УЭ 4 </a:t>
            </a:r>
            <a:r>
              <a:rPr b="1" lang="ru-RU" sz="3200" spc="-1" strike="noStrike">
                <a:solidFill>
                  <a:srgbClr val="546422"/>
                </a:solidFill>
                <a:latin typeface="Segoe Script"/>
              </a:rPr>
              <a:t>Лабораторная работа</a:t>
            </a:r>
            <a:br>
              <a:rPr sz="3200"/>
            </a:br>
            <a:r>
              <a:rPr b="1" lang="ru-RU" sz="3200" spc="-1" strike="noStrike">
                <a:solidFill>
                  <a:srgbClr val="546422"/>
                </a:solidFill>
                <a:latin typeface="Segoe Script"/>
              </a:rPr>
              <a:t>Изучение способа передвижения животных.</a:t>
            </a:r>
            <a:endParaRPr b="0" lang="en-US" sz="32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97d23"/>
                </a:solidFill>
                <a:latin typeface="Segoe UI"/>
              </a:rPr>
              <a:t>Цель: </a:t>
            </a:r>
            <a:r>
              <a:rPr b="0" lang="ru-RU" sz="3000" spc="-1" strike="noStrike">
                <a:solidFill>
                  <a:srgbClr val="000000"/>
                </a:solidFill>
                <a:latin typeface="Segoe UI"/>
              </a:rPr>
              <a:t>Способствовать выявлению способов движения животных на биологическом материале. Способствовать развитию умения наблюдать, выявлять признаки, делать выводы.</a:t>
            </a:r>
            <a:endParaRPr b="0" lang="en-US" sz="3000" spc="-1" strike="noStrike">
              <a:solidFill>
                <a:srgbClr val="e97d23"/>
              </a:solidFill>
              <a:latin typeface="Segoe U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97d23"/>
                </a:solidFill>
                <a:latin typeface="Segoe UI"/>
              </a:rPr>
              <a:t>Форма: </a:t>
            </a:r>
            <a:r>
              <a:rPr b="0" lang="ru-RU" sz="3000" spc="-1" strike="noStrike">
                <a:solidFill>
                  <a:srgbClr val="000000"/>
                </a:solidFill>
                <a:latin typeface="Segoe UI"/>
              </a:rPr>
              <a:t>лабораторная работа с использованием видеофрагментов: медуза, кальмар, инфузория, амеба, змея, птица, лощадь.</a:t>
            </a:r>
            <a:endParaRPr b="0" lang="en-US" sz="3000" spc="-1" strike="noStrike">
              <a:solidFill>
                <a:srgbClr val="e97d23"/>
              </a:solidFill>
              <a:latin typeface="Segoe U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Segoe UI"/>
              </a:rPr>
              <a:t>Обсуждение, исправление ошибок.</a:t>
            </a:r>
            <a:endParaRPr b="0" lang="en-US" sz="3000" spc="-1" strike="noStrike">
              <a:solidFill>
                <a:srgbClr val="e97d23"/>
              </a:solidFill>
              <a:latin typeface="Segoe U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Segoe UI"/>
              </a:rPr>
              <a:t>Подведение итогов</a:t>
            </a:r>
            <a:endParaRPr b="0" lang="en-US" sz="30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422"/>
                </a:solidFill>
                <a:latin typeface="Segoe Script"/>
              </a:rPr>
              <a:t>УЭ 0. Рефлексия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d23"/>
                </a:solidFill>
                <a:latin typeface="Segoe UI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осознать основные компоненты деятельности: ее смысл, типы, способы, проблемы, пути их решения, полученные результаты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d23"/>
                </a:solidFill>
                <a:latin typeface="Segoe UI"/>
              </a:rPr>
              <a:t>Форма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написание общего вывода в тетради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422"/>
                </a:solidFill>
                <a:latin typeface="Segoe Script"/>
              </a:rPr>
              <a:t>УЭ 5 Домашнее задание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d23"/>
                </a:solidFill>
                <a:latin typeface="Segoe UI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закрепить полученные на уроке знания и умения, развивать умения структурировать материал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d23"/>
                </a:solidFill>
                <a:latin typeface="Segoe UI"/>
              </a:rPr>
              <a:t>Форма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таблица, параграф по вопросам</a:t>
            </a:r>
            <a:r>
              <a:rPr b="0" lang="ru-RU" sz="3200" spc="-1" strike="noStrike">
                <a:solidFill>
                  <a:srgbClr val="e97d23"/>
                </a:solidFill>
                <a:latin typeface="Segoe UI"/>
              </a:rPr>
              <a:t>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6:18:38Z</dcterms:created>
  <dc:creator/>
  <dc:description>Шаблон оформления к 8 Марта</dc:description>
  <dc:language>en-US</dc:language>
  <cp:lastModifiedBy/>
  <dcterms:modified xsi:type="dcterms:W3CDTF">2013-04-03T16:25:3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16779990</vt:lpwstr>
  </property>
</Properties>
</file>