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E5F4-D32B-40FF-9A9A-BA0E24294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CA40-AEB5-4FEA-84DB-ABB70442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762A-F1FB-48A9-BFAA-10C2DD676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EB57-DEDE-4AEA-ADE7-C66BF0176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0ECC-2116-416C-A1B5-C358D95F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27AA-DC2A-461F-9A6E-1BA88AAF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16EC-62AA-4EDB-A001-E49E3250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87EC-E744-4B9B-9FC2-89F419E4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B0F6-1041-4B65-A5E7-9E18A737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1F52-436E-4DB6-A89E-18AB4CD0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51D9-4960-43B6-BFED-974173AD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2A13-DB3A-4995-8CAA-3DB89C2C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edit the title text format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2C5C-DE29-468E-9A75-19A412C0F27E}" type="slidenum">
              <a:rPr b="0" lang="ru-RU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128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6422"/>
                </a:solidFill>
                <a:latin typeface="Segoe Script"/>
              </a:rPr>
              <a:t>Способы передвижения животных. Полости тела.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pic>
        <p:nvPicPr>
          <p:cNvPr id="42" name="Подзаголовок 2" descr=""/>
          <p:cNvPicPr/>
          <p:nvPr/>
        </p:nvPicPr>
        <p:blipFill>
          <a:blip r:embed="rId1"/>
          <a:stretch/>
        </p:blipFill>
        <p:spPr>
          <a:xfrm>
            <a:off x="1189080" y="3352680"/>
            <a:ext cx="68324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Segoe UI"/>
              </a:rPr>
              <a:t>Цели урока:</a:t>
            </a:r>
            <a:r>
              <a:rPr b="0" lang="ru-RU" sz="2200" spc="-1" strike="noStrike">
                <a:solidFill>
                  <a:srgbClr val="000000"/>
                </a:solidFill>
                <a:latin typeface="Segoe U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Segoe UI"/>
              </a:rPr>
              <a:t>1. Сформировать представление о полости тела животных, ее видах и значении, об эволюционном направлении в изменении типа полостей тела животных</a:t>
            </a:r>
            <a:endParaRPr b="0" lang="en-US" sz="2200" spc="-1" strike="noStrike">
              <a:solidFill>
                <a:srgbClr val="e97d23"/>
              </a:solidFill>
              <a:latin typeface="Segoe U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egoe U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Segoe UI"/>
              </a:rPr>
              <a:t>2. Познакомиться с основными типами движения животных, показать эволюционное направление в изменении способов движения.</a:t>
            </a:r>
            <a:endParaRPr b="0" lang="en-US" sz="2200" spc="-1" strike="noStrike">
              <a:solidFill>
                <a:srgbClr val="e97d23"/>
              </a:solidFill>
              <a:latin typeface="Segoe U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Segoe UI"/>
              </a:rPr>
              <a:t>Задачи: </a:t>
            </a:r>
            <a:endParaRPr b="0" lang="en-US" sz="2200" spc="-1" strike="noStrike">
              <a:solidFill>
                <a:srgbClr val="e97d23"/>
              </a:solidFill>
              <a:latin typeface="Segoe U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Segoe UI"/>
              </a:rPr>
              <a:t>Образовательная.</a:t>
            </a:r>
            <a:r>
              <a:rPr b="0" lang="ru-RU" sz="2200" spc="-1" strike="noStrike">
                <a:solidFill>
                  <a:srgbClr val="000000"/>
                </a:solidFill>
                <a:latin typeface="Segoe UI"/>
              </a:rPr>
              <a:t> Расширить знания учащихся о полостях тела, способах передвижения животных и жизненных формах.</a:t>
            </a:r>
            <a:endParaRPr b="0" lang="en-US" sz="2200" spc="-1" strike="noStrike">
              <a:solidFill>
                <a:srgbClr val="e97d23"/>
              </a:solidFill>
              <a:latin typeface="Segoe U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Segoe UI"/>
              </a:rPr>
              <a:t>Развивающая.</a:t>
            </a:r>
            <a:r>
              <a:rPr b="0" lang="ru-RU" sz="2200" spc="-1" strike="noStrike">
                <a:solidFill>
                  <a:srgbClr val="000000"/>
                </a:solidFill>
                <a:latin typeface="Segoe UI"/>
              </a:rPr>
              <a:t> Развивать умение делать выводы на основе полученной информации. Способствовать формированию у учащихся индивидуального стиля учебной деятельности, умения адекватно мыслить и действовать в условиях ситуации выбора. Развивать интеллектуальные способности, логическое мышление, навыки познавательной самостоятельной активности.</a:t>
            </a:r>
            <a:endParaRPr b="0" lang="en-US" sz="2200" spc="-1" strike="noStrike">
              <a:solidFill>
                <a:srgbClr val="e97d23"/>
              </a:solidFill>
              <a:latin typeface="Segoe U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Segoe UI"/>
              </a:rPr>
              <a:t>Воспитательная.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Segoe UI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Segoe UI"/>
              </a:rPr>
              <a:t>Развитие навыков работы в группе. </a:t>
            </a:r>
            <a:endParaRPr b="0" lang="en-US" sz="2200" spc="-1" strike="noStrike">
              <a:solidFill>
                <a:srgbClr val="e97d23"/>
              </a:solidFill>
              <a:latin typeface="Segoe U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46422"/>
                </a:solidFill>
                <a:latin typeface="Segoe Script"/>
              </a:rPr>
              <a:t>Входной контроль</a:t>
            </a:r>
            <a:br>
              <a:rPr sz="4000"/>
            </a:br>
            <a:r>
              <a:rPr b="1" lang="ru-RU" sz="4000" spc="-1" strike="noStrike">
                <a:solidFill>
                  <a:srgbClr val="546422"/>
                </a:solidFill>
                <a:latin typeface="Segoe Script"/>
              </a:rPr>
              <a:t>Тест по вариантам</a:t>
            </a:r>
            <a:endParaRPr b="0" lang="en-US" sz="40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d23"/>
                </a:solidFill>
                <a:latin typeface="Segoe UI"/>
              </a:rPr>
              <a:t>Цель: </a:t>
            </a: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проверить знания по теме Опорно-Двигательная система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d23"/>
                </a:solidFill>
                <a:latin typeface="Segoe UI"/>
              </a:rPr>
              <a:t>Форма: </a:t>
            </a: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Электронный тест через проектор демонстрируется презентация, на каждое задание 1 мин. Всего 5 минут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После выполнения и сдачи тетрадей. Самоконтроль. Учитель сообщает правильные ответы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6422"/>
                </a:solidFill>
                <a:latin typeface="Segoe Script"/>
              </a:rPr>
              <a:t>УЭ 0. </a:t>
            </a:r>
            <a:r>
              <a:rPr b="1" lang="ru-RU" sz="4400" spc="-1" strike="noStrike">
                <a:solidFill>
                  <a:srgbClr val="546422"/>
                </a:solidFill>
                <a:latin typeface="Segoe Script"/>
              </a:rPr>
              <a:t>Общая цель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d23"/>
                </a:solidFill>
                <a:latin typeface="Segoe UI"/>
              </a:rPr>
              <a:t>Цель:</a:t>
            </a:r>
            <a:r>
              <a:rPr b="0" lang="ru-RU" sz="3200" spc="-1" strike="noStrike">
                <a:solidFill>
                  <a:srgbClr val="e97d23"/>
                </a:solidFill>
                <a:latin typeface="Segoe U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способствовать развитию умений формулировать цель, умению владеть научным языком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d23"/>
                </a:solidFill>
                <a:latin typeface="Segoe UI"/>
              </a:rPr>
              <a:t>Форма: </a:t>
            </a: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Работа в группах 1 мин, формулирование цели. 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Один представитель группы вслух проговаривает цель. Так каждая группа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6422"/>
                </a:solidFill>
                <a:latin typeface="Segoe Script"/>
              </a:rPr>
              <a:t>УЭ 2. </a:t>
            </a:r>
            <a:r>
              <a:rPr b="1" lang="ru-RU" sz="4400" spc="-1" strike="noStrike">
                <a:solidFill>
                  <a:srgbClr val="546422"/>
                </a:solidFill>
                <a:latin typeface="Segoe Script"/>
              </a:rPr>
              <a:t>Полости тела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97d23"/>
                </a:solidFill>
                <a:latin typeface="Segoe UI"/>
              </a:rPr>
              <a:t>Цель:</a:t>
            </a:r>
            <a:r>
              <a:rPr b="0" lang="ru-RU" sz="3000" spc="-1" strike="noStrike">
                <a:solidFill>
                  <a:srgbClr val="e97d23"/>
                </a:solidFill>
                <a:latin typeface="Segoe U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egoe UI"/>
              </a:rPr>
              <a:t>Способствовать формированию понятия полость тела: первичная и вторичная. Проследить эволюцию полостей тела у животных.</a:t>
            </a:r>
            <a:endParaRPr b="0" lang="en-US" sz="30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97d23"/>
                </a:solidFill>
                <a:latin typeface="Segoe UI"/>
              </a:rPr>
              <a:t>Форма: </a:t>
            </a:r>
            <a:r>
              <a:rPr b="0" lang="ru-RU" sz="3000" spc="-1" strike="noStrike">
                <a:solidFill>
                  <a:srgbClr val="000000"/>
                </a:solidFill>
                <a:latin typeface="Segoe UI"/>
              </a:rPr>
              <a:t>Устная работа в группах, поиск ответов на вопросы в учебнике 7 мин.</a:t>
            </a:r>
            <a:endParaRPr b="0" lang="en-US" sz="30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Segoe UI"/>
              </a:rPr>
              <a:t>Обсуждение вопросов, обязательный ответ на один из вопросов представителя от каждой группы.</a:t>
            </a:r>
            <a:endParaRPr b="0" lang="en-US" sz="30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Segoe UI"/>
              </a:rPr>
              <a:t>Подведение итогов, получение баллов</a:t>
            </a:r>
            <a:endParaRPr b="0" lang="en-US" sz="30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46422"/>
                </a:solidFill>
                <a:latin typeface="Segoe Script"/>
              </a:rPr>
              <a:t>УЭ 3 </a:t>
            </a:r>
            <a:r>
              <a:rPr b="1" lang="ru-RU" sz="4000" spc="-1" strike="noStrike">
                <a:solidFill>
                  <a:srgbClr val="546422"/>
                </a:solidFill>
                <a:latin typeface="Segoe Script"/>
              </a:rPr>
              <a:t>Способы передвижения животных. </a:t>
            </a:r>
            <a:endParaRPr b="0" lang="en-US" sz="40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d23"/>
                </a:solidFill>
                <a:latin typeface="Segoe UI"/>
              </a:rPr>
              <a:t>Цель: </a:t>
            </a: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Выяснить, что такое движение, какие виды движений существуют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d23"/>
                </a:solidFill>
                <a:latin typeface="Segoe UI"/>
              </a:rPr>
              <a:t>Форма: </a:t>
            </a: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Письменная работа в тетрадях, с использованием учебника. Составление схемы, с записью основных характеристик движения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Обсуждение, исправление ошибок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Подведение итогов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6422"/>
                </a:solidFill>
                <a:latin typeface="Segoe Script"/>
              </a:rPr>
              <a:t>УЭ 4 </a:t>
            </a:r>
            <a:r>
              <a:rPr b="1" lang="ru-RU" sz="3200" spc="-1" strike="noStrike">
                <a:solidFill>
                  <a:srgbClr val="546422"/>
                </a:solidFill>
                <a:latin typeface="Segoe Script"/>
              </a:rPr>
              <a:t>Лабораторная работа</a:t>
            </a:r>
            <a:br>
              <a:rPr sz="3200"/>
            </a:br>
            <a:r>
              <a:rPr b="1" lang="ru-RU" sz="3200" spc="-1" strike="noStrike">
                <a:solidFill>
                  <a:srgbClr val="546422"/>
                </a:solidFill>
                <a:latin typeface="Segoe Script"/>
              </a:rPr>
              <a:t>Изучение способа передвижения животных.</a:t>
            </a:r>
            <a:endParaRPr b="0" lang="en-US" sz="32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97d23"/>
                </a:solidFill>
                <a:latin typeface="Segoe UI"/>
              </a:rPr>
              <a:t>Цель: </a:t>
            </a:r>
            <a:r>
              <a:rPr b="0" lang="ru-RU" sz="3000" spc="-1" strike="noStrike">
                <a:solidFill>
                  <a:srgbClr val="000000"/>
                </a:solidFill>
                <a:latin typeface="Segoe UI"/>
              </a:rPr>
              <a:t>Способствовать выявлению способов движения животных на биологическом материале. Способствовать развитию умения наблюдать, выявлять признаки, делать выводы.</a:t>
            </a:r>
            <a:endParaRPr b="0" lang="en-US" sz="3000" spc="-1" strike="noStrike">
              <a:solidFill>
                <a:srgbClr val="e97d23"/>
              </a:solidFill>
              <a:latin typeface="Segoe U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97d23"/>
                </a:solidFill>
                <a:latin typeface="Segoe UI"/>
              </a:rPr>
              <a:t>Форма: </a:t>
            </a:r>
            <a:r>
              <a:rPr b="0" lang="ru-RU" sz="3000" spc="-1" strike="noStrike">
                <a:solidFill>
                  <a:srgbClr val="000000"/>
                </a:solidFill>
                <a:latin typeface="Segoe UI"/>
              </a:rPr>
              <a:t>лабораторная работа с использованием видеофрагментов: медуза, кальмар, инфузория, амеба, змея, птица, лощадь.</a:t>
            </a:r>
            <a:endParaRPr b="0" lang="en-US" sz="3000" spc="-1" strike="noStrike">
              <a:solidFill>
                <a:srgbClr val="e97d23"/>
              </a:solidFill>
              <a:latin typeface="Segoe U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Segoe UI"/>
              </a:rPr>
              <a:t>Обсуждение, исправление ошибок.</a:t>
            </a:r>
            <a:endParaRPr b="0" lang="en-US" sz="3000" spc="-1" strike="noStrike">
              <a:solidFill>
                <a:srgbClr val="e97d23"/>
              </a:solidFill>
              <a:latin typeface="Segoe U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Segoe UI"/>
              </a:rPr>
              <a:t>Подведение итогов</a:t>
            </a:r>
            <a:endParaRPr b="0" lang="en-US" sz="30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6422"/>
                </a:solidFill>
                <a:latin typeface="Segoe Script"/>
              </a:rPr>
              <a:t>УЭ 0. Рефлексия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97d23"/>
                </a:solidFill>
                <a:latin typeface="Segoe UI"/>
              </a:rPr>
              <a:t>Цель: </a:t>
            </a: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осознать основные компоненты деятельности: ее смысл, типы, способы, проблемы, пути их решения, полученные результаты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97d23"/>
                </a:solidFill>
                <a:latin typeface="Segoe UI"/>
              </a:rPr>
              <a:t>Форма: </a:t>
            </a: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написание общего вывода в тетради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6422"/>
                </a:solidFill>
                <a:latin typeface="Segoe Script"/>
              </a:rPr>
              <a:t>УЭ 5 Домашнее задание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d23"/>
                </a:solidFill>
                <a:latin typeface="Segoe UI"/>
              </a:rPr>
              <a:t>Цель: </a:t>
            </a: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закрепить полученные на уроке знания и умения, развивать умения структурировать материал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d23"/>
                </a:solidFill>
                <a:latin typeface="Segoe UI"/>
              </a:rPr>
              <a:t>Форма: </a:t>
            </a: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таблица, параграф по вопросам</a:t>
            </a:r>
            <a:r>
              <a:rPr b="0" lang="ru-RU" sz="3200" spc="-1" strike="noStrike">
                <a:solidFill>
                  <a:srgbClr val="e97d23"/>
                </a:solidFill>
                <a:latin typeface="Segoe UI"/>
              </a:rPr>
              <a:t>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6:18:38Z</dcterms:created>
  <dc:creator/>
  <dc:description>Шаблон оформления к 8 Марта</dc:description>
  <dc:language>en-US</dc:language>
  <cp:lastModifiedBy/>
  <dcterms:modified xsi:type="dcterms:W3CDTF">2013-04-03T16:25:3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516779990</vt:lpwstr>
  </property>
</Properties>
</file>