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736-B029-46BE-875A-61424C05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E05-57EE-45AA-ADF8-76F83A00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CAB-1733-476F-9662-14A308898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642-B531-4B24-8D57-20431E98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BD32-BCD8-435E-B66C-CC83097F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E98-BED7-4BB4-B864-1E270009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C00B-4B88-427C-83F3-B45E5146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7B8D-9184-4C4F-9870-10EE485A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D150-E9C7-4B79-AB72-B2EFF922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A040-E51E-4D38-A1A7-1FA84F7F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AE39-7579-4F4E-9D85-09534932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4AA3-4EC7-4A29-8610-50F4852A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6422"/>
                </a:solidFill>
                <a:latin typeface="Segoe Script"/>
              </a:rPr>
              <a:t>Click to edit the title text format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Click to edit the outline text format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con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Third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our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Fif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ix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7d23"/>
                </a:solidFill>
                <a:latin typeface="Segoe UI"/>
              </a:rPr>
              <a:t>Seventh Outline Level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2A9F-6215-4D4C-AFCE-7C8B0A5B11A2}" type="slidenum">
              <a:rPr b="0" lang="ru-RU" sz="1200" spc="-1" strike="noStrike">
                <a:solidFill>
                  <a:srgbClr val="898989"/>
                </a:solidFill>
                <a:latin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46422"/>
                </a:solidFill>
                <a:latin typeface="Segoe Script"/>
              </a:rPr>
              <a:t>Способы передвижения животных. Полости тела.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pic>
        <p:nvPicPr>
          <p:cNvPr id="42" name="Подзаголовок 2" descr=""/>
          <p:cNvPicPr/>
          <p:nvPr/>
        </p:nvPicPr>
        <p:blipFill>
          <a:blip r:embed="rId1"/>
          <a:stretch/>
        </p:blipFill>
        <p:spPr>
          <a:xfrm>
            <a:off x="1189080" y="3352680"/>
            <a:ext cx="68324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Segoe UI"/>
              </a:rPr>
              <a:t>Цели урока: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1. Сформировать представление о полости тела животных, ее видах и значении, об эволюционном направлении в изменении типа полостей тела животных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2. Познакомиться с основными типами движения животных, показать эволюционное направление в изменении способов движения.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Segoe UI"/>
              </a:rPr>
              <a:t>Задачи: 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Segoe UI"/>
              </a:rPr>
              <a:t>Образовательная.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 Расширить знания учащихся о полостях тела, способах передвижения животных и жизненных формах.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Segoe UI"/>
              </a:rPr>
              <a:t>Развивающая.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 Развивать умение делать выводы на основе полученной информации. Способствовать формированию у учащихся индивидуального стиля учебной деятельности, умения адекватно мыслить и действовать в условиях ситуации выбора. Развивать интеллектуальные способности, логическое мышление, навыки познавательной самостоятельной активности.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Segoe UI"/>
              </a:rPr>
              <a:t>Воспитательная.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Segoe UI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Segoe UI"/>
              </a:rPr>
              <a:t>Развитие навыков работы в группе. </a:t>
            </a: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46422"/>
                </a:solidFill>
                <a:latin typeface="Segoe Script"/>
              </a:rPr>
              <a:t>Входной контроль</a:t>
            </a:r>
            <a:br>
              <a:rPr sz="4000"/>
            </a:br>
            <a:r>
              <a:rPr b="1" lang="ru-RU" sz="4000" spc="-1" strike="noStrike">
                <a:solidFill>
                  <a:srgbClr val="546422"/>
                </a:solidFill>
                <a:latin typeface="Segoe Script"/>
              </a:rPr>
              <a:t>Тест по вариантам</a:t>
            </a:r>
            <a:endParaRPr b="0" lang="en-US" sz="40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проверить знания по теме Опорно-Двигательная система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Электронный тест через проектор демонстрируется презентация, на каждое задание 1 мин. Всего 5 минут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После выполнения и сдачи тетрадей. Самоконтроль. Учитель сообщает правильные ответы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УЭ 0. </a:t>
            </a:r>
            <a:r>
              <a:rPr b="1" lang="ru-RU" sz="4400" spc="-1" strike="noStrike">
                <a:solidFill>
                  <a:srgbClr val="546422"/>
                </a:solidFill>
                <a:latin typeface="Segoe Script"/>
              </a:rPr>
              <a:t>Общая цель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Цель:</a:t>
            </a: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способствовать развитию умений формулировать цель, умению владеть научным языком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Работа в группах 1 мин, формулирование цели. 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Один представитель группы вслух проговаривает цель. Так каждая группа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УЭ 2. </a:t>
            </a:r>
            <a:r>
              <a:rPr b="1" lang="ru-RU" sz="4400" spc="-1" strike="noStrike">
                <a:solidFill>
                  <a:srgbClr val="546422"/>
                </a:solidFill>
                <a:latin typeface="Segoe Script"/>
              </a:rPr>
              <a:t>Полости тела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7d23"/>
                </a:solidFill>
                <a:latin typeface="Segoe UI"/>
              </a:rPr>
              <a:t>Цель:</a:t>
            </a:r>
            <a:r>
              <a:rPr b="0" lang="ru-RU" sz="3000" spc="-1" strike="noStrike">
                <a:solidFill>
                  <a:srgbClr val="e97d23"/>
                </a:solidFill>
                <a:latin typeface="Segoe U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Способствовать формированию понятия полость тела: первичная и вторичная. Проследить эволюцию полостей тела у животных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Устная работа в группах, поиск ответов на вопросы в учебнике 7 мин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Обсуждение вопросов, обязательный ответ на один из вопросов представителя от каждой группы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Подведение итогов, получение баллов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46422"/>
                </a:solidFill>
                <a:latin typeface="Segoe Script"/>
              </a:rPr>
              <a:t>УЭ 3 </a:t>
            </a:r>
            <a:r>
              <a:rPr b="1" lang="ru-RU" sz="4000" spc="-1" strike="noStrike">
                <a:solidFill>
                  <a:srgbClr val="546422"/>
                </a:solidFill>
                <a:latin typeface="Segoe Script"/>
              </a:rPr>
              <a:t>Способы передвижения животных. </a:t>
            </a:r>
            <a:endParaRPr b="0" lang="en-US" sz="40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Выяснить, что такое движение, какие виды движений существуют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Письменная работа в тетрадях, с использованием учебника. Составление схемы, с записью основных характеристик движения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Обсуждение, исправление ошибок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Подведение итогов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6422"/>
                </a:solidFill>
                <a:latin typeface="Segoe Script"/>
              </a:rPr>
              <a:t>УЭ 4 </a:t>
            </a:r>
            <a:r>
              <a:rPr b="1" lang="ru-RU" sz="3200" spc="-1" strike="noStrike">
                <a:solidFill>
                  <a:srgbClr val="546422"/>
                </a:solidFill>
                <a:latin typeface="Segoe Script"/>
              </a:rPr>
              <a:t>Лабораторная работа</a:t>
            </a:r>
            <a:br>
              <a:rPr sz="3200"/>
            </a:br>
            <a:r>
              <a:rPr b="1" lang="ru-RU" sz="3200" spc="-1" strike="noStrike">
                <a:solidFill>
                  <a:srgbClr val="546422"/>
                </a:solidFill>
                <a:latin typeface="Segoe Script"/>
              </a:rPr>
              <a:t>Изучение способа передвижения животных.</a:t>
            </a:r>
            <a:endParaRPr b="0" lang="en-US" sz="32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7d23"/>
                </a:solidFill>
                <a:latin typeface="Segoe UI"/>
              </a:rPr>
              <a:t>Цель: </a:t>
            </a: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Способствовать выявлению способов движения животных на биологическом материале. Способствовать развитию умения наблюдать, выявлять признаки, делать выводы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лабораторная работа с использованием видеофрагментов: медуза, кальмар, инфузория, амеба, змея, птица, лощадь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Обсуждение, исправление ошибок.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egoe UI"/>
              </a:rPr>
              <a:t>Подведение итогов</a:t>
            </a:r>
            <a:endParaRPr b="0" lang="en-US" sz="30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УЭ 0. Рефлексия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осознать основные компоненты деятельности: ее смысл, типы, способы, проблемы, пути их решения, полученные результаты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написание общего вывода в тетради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46422"/>
                </a:solidFill>
                <a:latin typeface="Segoe Script"/>
              </a:rPr>
              <a:t>УЭ 5 Домашнее задание</a:t>
            </a:r>
            <a:endParaRPr b="0" lang="en-US" sz="4400" spc="-1" strike="noStrike">
              <a:solidFill>
                <a:srgbClr val="546422"/>
              </a:solidFill>
              <a:latin typeface="Segoe Scrip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Цель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закрепить полученные на уроке знания и умения, развивать умения структурировать материал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97d23"/>
                </a:solidFill>
                <a:latin typeface="Segoe UI"/>
              </a:rPr>
              <a:t>Форма: </a:t>
            </a:r>
            <a:r>
              <a:rPr b="0" lang="ru-RU" sz="3200" spc="-1" strike="noStrike">
                <a:solidFill>
                  <a:srgbClr val="000000"/>
                </a:solidFill>
                <a:latin typeface="Segoe UI"/>
              </a:rPr>
              <a:t>таблица, параграф по вопросам</a:t>
            </a:r>
            <a:r>
              <a:rPr b="0" lang="ru-RU" sz="3200" spc="-1" strike="noStrike">
                <a:solidFill>
                  <a:srgbClr val="e97d23"/>
                </a:solidFill>
                <a:latin typeface="Segoe UI"/>
              </a:rPr>
              <a:t>.</a:t>
            </a:r>
            <a:endParaRPr b="0" lang="en-US" sz="3200" spc="-1" strike="noStrike">
              <a:solidFill>
                <a:srgbClr val="e97d23"/>
              </a:solidFill>
              <a:latin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16:18:38Z</dcterms:created>
  <dc:creator/>
  <dc:description>Шаблон оформления к 8 Марта</dc:description>
  <dc:language>en-US</dc:language>
  <cp:lastModifiedBy/>
  <dcterms:modified xsi:type="dcterms:W3CDTF">2013-04-03T16:25:3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516779990</vt:lpwstr>
  </property>
</Properties>
</file>